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BB9-9CEB-4235-BA95-D622DF51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794-2C48-4AD0-A7C5-AD4FED22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781-C3D2-4D74-9C2D-6628C9A2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47F-8187-450F-BA41-2BEA2B54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5781-E3B9-43E8-9AFB-E67832BC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D4B5-0D3F-498E-9266-CD5B82B9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51D1-95CF-4221-99CD-F14194B9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2390-A22A-4278-88AD-E65A9440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2063-7CBE-4C08-8853-8944689B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40FD-C90A-46D5-BB51-6E2F43B5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4A6B-87BC-4DFC-896B-74FF181C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1F4-7088-4786-A6E1-5DE9452C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E700-7134-4938-B013-F4D4BBD7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D76F-C889-4720-8E3A-F846C609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C5C9-3681-43B4-92C0-620EACE6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9E36-7A94-4886-B428-95FE6CF8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23FC-AD36-4DCE-B29F-BD732479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A90-3AC6-40E6-9839-268E5659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844-BF47-43EE-BF77-75075A11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80E-C002-4309-BEBF-A64CD617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A28C-3C89-4983-8280-5C8D0C4A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720-7261-4DAA-91F0-0C81D6C7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0F2-65B2-46DF-A4F1-35290986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92E-96E0-4FA2-9FA3-CEB677D6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3814-3B6D-454C-B2DF-9A3A607DD8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3F53-7449-4541-A704-DA3EE82C9B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рекционно-педагогическое и социально-психологическое сопровождение обучаю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 задержкой психического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спитательные 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яют задачи формирования ценностного отношения к тому или иному предмету, явлению, совершенствования моделей поведения, овладения детьми коммуникативными умениями, развития социальной активности и т.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ррекционные 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ко ориентируют педагога на развитие психических процессов, эмоционально-волевой сферы ребенка, на исправление и компенсацию имеющихся недостатков специальными педагогическими и психологическими прие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жны быть предельно конкретными и направленными на активизацию тех психических функций, которые будут максимально задействованы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изация коррекционных задач предполагает включение в урок специальных коррекционно-развивающих упражнений для совершенствования высших психических функций, эмоционально-волевой, познавательной сфер и пр., включение заданий с опорой на несколько анализаторов и п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72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определить коррекционные задач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планировании уроков, индивидуальных и групповых занятий, проектировании программно-планирующей документации педагогу следует ответить на вопрос: «По каким направлениям будет проходить коррекционная работа на занятии в связи с изучаемым материалом?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72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р постановк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онных зада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развивать (способствовать развитию) слуховое восприятие учащихся на основе упражнений в узнавании и соотнес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корректировать зрительное восприятие на основе упражнений н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мер постановки коррекционных задач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ять коррекцию пространственного восприятия при соотнесении объемных геометрических тел и их контурных изобра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ствовать коррекции тонких дифференцированных движений пальцев рук при выкладывании вертикальных построек из палоч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ствовать развитию процессов памяти (узнавания) на основе использования различных анализатор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49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ловия коррекционной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ет социальной ситуации развития ребенка (круг общения, характер взаимоотношений в системе «взрослый-ребенок», «ребенок-ребенок»). Негативно влияют на развитие ребенка  дефицит общения, травмирующее действие социальной микросре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ет состояния здоровья (соматического и нервно-психического), повышенной утомляемости детей в процессе интеллектуально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менение широкой наглядности и словесной конкретизации общих положений с большим количеством упражнений, выполнение которых опирается на прямой показ приемов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ние должно быть умеренной трудности, но доступным, так как на первых этапах коррекционной работы необходимо обеспечить ученику субъективное переживание успеха на фоне определенной затраты усил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11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ловия коррекционной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степенное сокращение помощи со стороны и постепенное повышение трудности предлагаемых для решения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правленность на формирование ведущей деятельности, а также других, типичных для данного возраста видов деятельности. Негативно сказывается на развитии ребенка отсутствие полноценной, соответствующей его возрасту деятельности, которая обеспечивает «присвоение» и смену ведущего вида деятельности на каждом возрастном эта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дивидуализация обучения, ориентированная на учете индивидуально-психологических особенностей ребен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ловия коррекционной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ажным является активное воздействие на умственное развитие детей, а не пассивное приспособление к слабым сторонам их псих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ткое преставление о том, какую функцию у ребенка следует развивать на уроке, индивидуальном коррекционном занят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ализация комплексного подхода в процессе коррекции психических процес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атическое отслеживание уровня развития психических процес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26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ные направления коррекционной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двигательной сферы и сенсомотор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отдельных сторон псих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пространственных предста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основных мыслительны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различных видов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нарушений в развитии эмоционально-личностной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речи, овладение технико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ширение представлений об окружающем мире и обогащение слов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индивидуальных пробелов в зн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вершенствование двигательной сферы и сенсомоторного 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мелкой моторики кисти и пальцев ру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навыков каллиграф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артикуляционной мотор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зрительного анализа и пространственного восприятия элементов бук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тонкости и дифференцированности анализа зрительно воспринимаемых объек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умения организации и контроля простейших двигательных програм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ловия успешности сопровождения обучающихся с задержкой психического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в образовательном учреждении системы психолого-педагогического сопров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уальных особенностей обучающихся с задержкой псих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ение коррекционной работы средствами учебных дисциплин и силами узких специал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ие индивидуальных и групповых коррекционных занятий общеразвивающей и предметн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49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навание контурных, силуэтных, перечеркнутых изображений, недорисованных предме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ные изображения (найди отлич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законченные изображения (дорису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гурно-фоновое различие предметов, бук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ализ сложного образ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хождения сходства и различия двух изображ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ление соответствия фоновых элементов, узоров (игра «Подбери узор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ленение зрительно воспринимаемого элемента буквы в фигурах сложной конфигур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хождение среди рядов повторяющихся фигур, букв их заданного сочетания; нахождение букв с заданным элемен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хождение заданного элемента в ряду бук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рисование фигур по точк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49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я отдельных сторон психическ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зрительного восприятия и узна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зрительной памяти и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обобщенных представлений о свойствах предметов (цвет, форма, велич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ространственных представлений и ори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редставлений 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лухового внимания и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фонетико-фонематических представлений, формирование звукового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72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ирование пространственных представл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умения ориентировки в схеме собственного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ориентировки в ближайшем окружении (класс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умения ориентировки на плоскости (тетрадь, кни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415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основных мыслительных операций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ыков соотносительн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ыков группировки и классификации (на базе овладения основными родовыми поняти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я работать по словесной и письменной инструкции, алгорит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я планировать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мбинаторных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различных видов мыш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наглядно-образного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словесно-логического мышления (умение видеть и устанавливать логические связи между предметами, явлениями и событи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 навыков программирования и контроля соб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яция простейших двигательн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мения ориентировки в зад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мения планирования этапов выполнения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основных способов самоконтроля каждого этапа выполнения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мения осуществлять словесный отчет о совершаемом действии и результа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26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инструкции к заданию, образца: «Что мне нужно сделать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каждого шага предстоящей работы: «Что я буду делать сначала? Что я сделаю потом? Что мне нужно сделать да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ка работы: «Сравнение с образц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ждение и исправление ошибок: «Что нужно исправить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евая регуляция действий: «Как я выполнял работу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я нарушений в развитии эмоционально-личностной сф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лаксационные упражнения для мимики 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ы-драм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ситуации усп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491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развитию пространственно-временной ориентир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 руку по схеме способом на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 ногу по отпечатку следов на пе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числовыми ря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е дикт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ка в схеме собственного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ка в пространстве комнаты, на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пространственного расположения элементов бук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карточек-опор с названием дней недели, месяцев, времен год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 развитию произвольности внима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ить  склеенные между собой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повторяющиес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по таблице Бурдона (зачеркнуть определенные букв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обучения детей с задержкой психического развития на основе индивидуальных образователь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ситуации успеха при выполнении различных заданий с постепенным повышением уровня сложности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грация обучающихся с ограниченными возможностями здоровья в среду нормально развивающихся сверс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изация ресурсов семьи ребенка с задержкой псих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развитию памя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ровка произвольного запоминания зрительно воспринимаем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льное запоминание слухового ряда: цифр, звуков, слов, предложений, многоступенчатых инстру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предмет среди дру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порных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ирование с закрытыми гл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адай фигуру (на ощупь с закрытыми глаз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ери третье слово (яйцо-курица (цыпленок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568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развитию мыслительных опер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зови одним слов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ключи лишне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общи по видовому понят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крой объем видового понят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анови временные и причинно-следственные зависимости (продолжи предложение: Мама выключила свет, потому что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рассказов по наблюдениям в природе, по сюжетным карти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плана текста, экскурсии, по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ние предмета по картинному пл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24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ким образом, коррекционная работа с обучающимися с ЗПР базируется на следующих составляющи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до необходимого уровня психофизиологических функций, обеспечивающих готовность к обучению: артикуляционного аппарата, фонематического слуха, мелких мышц руки, оптико-пространственной ориентации, зрительно-моторной координаци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гащение кругозора детей, формирование отчетливых, разносторонних представлений о предметах и явлениях окружающей действительности, которые способствуют осознанному восприятию ребенком учеб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ритет знаниям, полученным на основе практического опыта, т.к. эти знания обогащают содержание обучения непосредственными наблюдениями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умений и навыков, необходимых для деятельности любого вида: ориентироваться в задании, планировать предстоящую работу, выполнять ее в соответствии с наглядным образцом и (или) словесными указаниями учителя, осуществлять самоконтроль и самооценку (общие (ключевые) компетен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иление роли общеучебных и общепознавательных способов деятельности: умения наблюдать, анализировать, сравнивать, абстрагировать, обобщать, доказывать, классифицировать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оминать произвольно и опосредованно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ие содержания учебной деятельности, требующего от детей интеллектуального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аптация содержания учебного материала, через очищение от сложности подробностей, выделение в каждой теме базового материала, подлежащего многократному закреплению, дифференцировка заданий в зависимости от коррекцион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бор, комбинация методов и приемов обучения с целью смены видов деятельности детей, изменения доминантного анализатора, включения в работу большинства анализаторов, использование ориентировочной основы действий (опорных сигналов, алгоритмов, образцов выполнения зад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гащение и систематизация словаря и развитие речи средствами всех учебных дисцип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предел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 задержки психического развития употребляется по отношению к детям с минимальными органическими повреждениями или функциональной недостаточностью центральной нервной системы, а также длительно находящимися в условиях социальной депр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представляет собой нарушение темпа всего психического развития при наличии значительных потенциальных возможнос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«ЗПР» подчеркивает временной (несоответствие уровня психического развития возрасту) и одновременно временный характер отставания (полностью или частично преодолевается под воздействием лечебных и педагогических факторов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тексте медицинского подхода задержка психического развития рассматривается как синдром незрелости психических или психомоторных функций и как проявление замедленного созревания морфофункциональных систем мозга под влиянием неблагоприятных факт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Формы задержки психического развит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конституциональн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соматогенн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психогенн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церебрально-органическ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48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становка зада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дагог формулирует три типа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пит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рекционные (коррекционно-развивающ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56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зовательные 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яют задачи усвоения учебного программного материала, овладения детьми определенными учебными знаниями, умениями и навы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улировка задач отражает содержание занятия (конкретнос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еподаватель</cp:lastModifiedBy>
  <dcterms:modified xsi:type="dcterms:W3CDTF">2015-03-14T14:21:40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